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2D9-CC06-4685-A0DB-FCECEB0D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EEB-DA1F-4D01-8BE2-2B26A6C4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A80-5A26-4A5D-BF22-519CB35D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CDC-72E7-4070-B655-5F0AC709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1CD-60FD-4BD4-AA3B-3FD797AF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806-4347-47CC-BEC2-0A9962EA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AE7-4612-4A56-9884-B674B7CD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194-3AAF-4D2E-8D64-E29D078A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502-BB8C-405C-BC1D-9A67F843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E93-4288-495D-8364-0051BCBC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9A1-3D71-43C4-AD2D-7055010D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207-24C2-4698-A6DD-4816C637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B5B1-2C90-418A-A8D2-7760E0C6E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andscape of the home-schoo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1412640"/>
            <a:ext cx="62247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(explored through the issues of homework [setting / doing / monitoring] and the role of pupils, parents and teach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within this scenar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133720"/>
            <a:ext cx="799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equal stakeholders with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3554280"/>
            <a:ext cx="1584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3573360"/>
            <a:ext cx="1584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7640" y="5157720"/>
            <a:ext cx="1729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87600">
            <a:off x="2637000" y="436572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5040" y="3500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254000">
            <a:off x="5580000" y="43113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andscape of the pu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4221000"/>
            <a:ext cx="230508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p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3284640"/>
            <a:ext cx="12952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ial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484280"/>
            <a:ext cx="115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81360" y="20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797400">
            <a:off x="2978640" y="3869640"/>
            <a:ext cx="48600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784840"/>
            <a:ext cx="1989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er / pu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640" y="4437000"/>
            <a:ext cx="17287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y 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4508640"/>
            <a:ext cx="647640" cy="485640"/>
          </a:xfrm>
          <a:prstGeom prst="left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578800">
            <a:off x="2771280" y="5013000"/>
            <a:ext cx="486000" cy="865080"/>
          </a:xfrm>
          <a:prstGeom prst="downArrow">
            <a:avLst>
              <a:gd name="adj1" fmla="val 50000"/>
              <a:gd name="adj2" fmla="val 44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65560" y="5786280"/>
            <a:ext cx="12999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5837400"/>
            <a:ext cx="1224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16720" y="5837400"/>
            <a:ext cx="863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40720" y="584208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797360"/>
            <a:ext cx="431640" cy="863640"/>
          </a:xfrm>
          <a:prstGeom prst="upDownArrow">
            <a:avLst>
              <a:gd name="adj1" fmla="val 50000"/>
              <a:gd name="adj2" fmla="val 39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5805360"/>
            <a:ext cx="216000" cy="486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35640" y="4797360"/>
            <a:ext cx="431640" cy="863640"/>
          </a:xfrm>
          <a:prstGeom prst="upDownArrow">
            <a:avLst>
              <a:gd name="adj1" fmla="val 50000"/>
              <a:gd name="adj2" fmla="val 39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494172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213200">
            <a:off x="6151320" y="4460400"/>
            <a:ext cx="792000" cy="486000"/>
          </a:xfrm>
          <a:prstGeom prst="rightArrow">
            <a:avLst>
              <a:gd name="adj1" fmla="val 50000"/>
              <a:gd name="adj2" fmla="val 407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36600">
            <a:off x="7038720" y="538020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851600">
            <a:off x="7993080" y="538128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817720"/>
            <a:ext cx="244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a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254000">
            <a:off x="5727240" y="3344760"/>
            <a:ext cx="486000" cy="728640"/>
          </a:xfrm>
          <a:prstGeom prst="upArrow">
            <a:avLst>
              <a:gd name="adj1" fmla="val 50000"/>
              <a:gd name="adj2" fmla="val 37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1413000"/>
            <a:ext cx="17272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otional mat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0000" y="1916280"/>
            <a:ext cx="485640" cy="649080"/>
          </a:xfrm>
          <a:prstGeom prst="upArrow">
            <a:avLst>
              <a:gd name="adj1" fmla="val 50000"/>
              <a:gd name="adj2" fmla="val 33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816280"/>
            <a:ext cx="151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er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3284640"/>
            <a:ext cx="485640" cy="720720"/>
          </a:xfrm>
          <a:prstGeom prst="up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00360" y="1413000"/>
            <a:ext cx="18734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1916280"/>
            <a:ext cx="485640" cy="649080"/>
          </a:xfrm>
          <a:prstGeom prst="upArrow">
            <a:avLst>
              <a:gd name="adj1" fmla="val 50000"/>
              <a:gd name="adj2" fmla="val 33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andscape of the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3032280"/>
            <a:ext cx="129708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303372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28616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4287960"/>
            <a:ext cx="1152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4292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4221000"/>
            <a:ext cx="1368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5300640"/>
            <a:ext cx="1152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b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5516640"/>
            <a:ext cx="143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324800">
            <a:off x="493200" y="361944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647600">
            <a:off x="1363320" y="358416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797360"/>
            <a:ext cx="865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p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970800">
            <a:off x="2886120" y="3539880"/>
            <a:ext cx="485640" cy="720720"/>
          </a:xfrm>
          <a:prstGeom prst="upDownArrow">
            <a:avLst>
              <a:gd name="adj1" fmla="val 50000"/>
              <a:gd name="adj2" fmla="val 2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1844640"/>
            <a:ext cx="15130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/Teachers 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51280" y="2133720"/>
            <a:ext cx="151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ial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1268280"/>
            <a:ext cx="1152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1413000"/>
            <a:ext cx="151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er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1844640"/>
            <a:ext cx="14414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l / this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2781360"/>
            <a:ext cx="15127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3573360"/>
            <a:ext cx="107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3573360"/>
            <a:ext cx="151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7080" y="2637000"/>
            <a:ext cx="15127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4724280"/>
            <a:ext cx="151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y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8720" y="4076640"/>
            <a:ext cx="1513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2492280"/>
            <a:ext cx="360360" cy="432000"/>
          </a:xfrm>
          <a:prstGeom prst="up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742600">
            <a:off x="3277080" y="249156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1628640"/>
            <a:ext cx="360360" cy="432000"/>
          </a:xfrm>
          <a:prstGeom prst="up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573200">
            <a:off x="3900240" y="3225600"/>
            <a:ext cx="486000" cy="1127160"/>
          </a:xfrm>
          <a:prstGeom prst="downArrow">
            <a:avLst>
              <a:gd name="adj1" fmla="val 50000"/>
              <a:gd name="adj2" fmla="val 57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1317400">
            <a:off x="2411280" y="3789000"/>
            <a:ext cx="486000" cy="576360"/>
          </a:xfrm>
          <a:prstGeom prst="downArrow">
            <a:avLst>
              <a:gd name="adj1" fmla="val 50000"/>
              <a:gd name="adj2" fmla="val 29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831280" y="209808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742600">
            <a:off x="5183640" y="166464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6263280" y="2672280"/>
            <a:ext cx="360360" cy="432000"/>
          </a:xfrm>
          <a:prstGeom prst="up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4597400">
            <a:off x="5652360" y="479592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8035200">
            <a:off x="7775640" y="490572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7234800">
            <a:off x="6120360" y="4113720"/>
            <a:ext cx="360360" cy="432000"/>
          </a:xfrm>
          <a:prstGeom prst="up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175000">
            <a:off x="6227640" y="350172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496600">
            <a:off x="8353440" y="3146040"/>
            <a:ext cx="115920" cy="781200"/>
          </a:xfrm>
          <a:prstGeom prst="downArrow">
            <a:avLst>
              <a:gd name="adj1" fmla="val 50000"/>
              <a:gd name="adj2" fmla="val 168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51600" y="69228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andscape of the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0" y="3141720"/>
            <a:ext cx="15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6237360"/>
            <a:ext cx="86508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14172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3645000"/>
            <a:ext cx="136836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colleag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2565360"/>
            <a:ext cx="115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ag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2565360"/>
            <a:ext cx="1008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2060640"/>
            <a:ext cx="1008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3141720"/>
            <a:ext cx="100836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 of D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78936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407664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06064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12536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1700280"/>
            <a:ext cx="1008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1125360"/>
            <a:ext cx="1800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 Tea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1773360"/>
            <a:ext cx="143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1916280"/>
            <a:ext cx="1440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tor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3645000"/>
            <a:ext cx="1440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4508640"/>
            <a:ext cx="1440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43700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k of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5229360"/>
            <a:ext cx="14396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443700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 Welfare Offi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445000"/>
            <a:ext cx="2521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Education Auth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6165720"/>
            <a:ext cx="1440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185600">
            <a:off x="5430960" y="3546360"/>
            <a:ext cx="1015920" cy="216000"/>
          </a:xfrm>
          <a:prstGeom prst="rightArrow">
            <a:avLst>
              <a:gd name="adj1" fmla="val 50000"/>
              <a:gd name="adj2" fmla="val 117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081400">
            <a:off x="5724000" y="2420640"/>
            <a:ext cx="1016280" cy="216000"/>
          </a:xfrm>
          <a:prstGeom prst="rightArrow">
            <a:avLst>
              <a:gd name="adj1" fmla="val 50000"/>
              <a:gd name="adj2" fmla="val 117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5032440" y="2178000"/>
            <a:ext cx="304560" cy="216000"/>
          </a:xfrm>
          <a:prstGeom prst="rightArrow">
            <a:avLst>
              <a:gd name="adj1" fmla="val 50000"/>
              <a:gd name="adj2" fmla="val 35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9171800">
            <a:off x="4284360" y="278100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2502200">
            <a:off x="2700360" y="2996640"/>
            <a:ext cx="1015920" cy="215640"/>
          </a:xfrm>
          <a:prstGeom prst="rightArrow">
            <a:avLst>
              <a:gd name="adj1" fmla="val 50000"/>
              <a:gd name="adj2" fmla="val 1177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1979640" y="2205000"/>
            <a:ext cx="304560" cy="216000"/>
          </a:xfrm>
          <a:prstGeom prst="rightArrow">
            <a:avLst>
              <a:gd name="adj1" fmla="val 50000"/>
              <a:gd name="adj2" fmla="val 35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4150400">
            <a:off x="1071360" y="2464920"/>
            <a:ext cx="304560" cy="216000"/>
          </a:xfrm>
          <a:prstGeom prst="rightArrow">
            <a:avLst>
              <a:gd name="adj1" fmla="val 50000"/>
              <a:gd name="adj2" fmla="val 35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8241000">
            <a:off x="998280" y="2825280"/>
            <a:ext cx="304560" cy="216000"/>
          </a:xfrm>
          <a:prstGeom prst="rightArrow">
            <a:avLst>
              <a:gd name="adj1" fmla="val 50000"/>
              <a:gd name="adj2" fmla="val 35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9171800">
            <a:off x="2484360" y="2276280"/>
            <a:ext cx="304920" cy="215640"/>
          </a:xfrm>
          <a:prstGeom prst="rightArrow">
            <a:avLst>
              <a:gd name="adj1" fmla="val 50000"/>
              <a:gd name="adj2" fmla="val 35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3769800">
            <a:off x="1863720" y="2968560"/>
            <a:ext cx="304560" cy="216000"/>
          </a:xfrm>
          <a:prstGeom prst="rightArrow">
            <a:avLst>
              <a:gd name="adj1" fmla="val 50000"/>
              <a:gd name="adj2" fmla="val 35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6200400">
            <a:off x="1330560" y="3212280"/>
            <a:ext cx="720720" cy="144360"/>
          </a:xfrm>
          <a:prstGeom prst="rightArrow">
            <a:avLst>
              <a:gd name="adj1" fmla="val 50000"/>
              <a:gd name="adj2" fmla="val 124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8241000">
            <a:off x="3707640" y="371628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3769800">
            <a:off x="4598640" y="376056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769800">
            <a:off x="7407360" y="4049640"/>
            <a:ext cx="304560" cy="216000"/>
          </a:xfrm>
          <a:prstGeom prst="rightArrow">
            <a:avLst>
              <a:gd name="adj1" fmla="val 50000"/>
              <a:gd name="adj2" fmla="val 35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8500800">
            <a:off x="6614280" y="4120920"/>
            <a:ext cx="304920" cy="215640"/>
          </a:xfrm>
          <a:prstGeom prst="rightArrow">
            <a:avLst>
              <a:gd name="adj1" fmla="val 50000"/>
              <a:gd name="adj2" fmla="val 35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3769800">
            <a:off x="2006280" y="584964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361200">
            <a:off x="2223720" y="541764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171800">
            <a:off x="1618920" y="479700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5078000">
            <a:off x="1213920" y="152820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0560" y="27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70828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8403200">
            <a:off x="2155680" y="1812960"/>
            <a:ext cx="1015920" cy="215640"/>
          </a:xfrm>
          <a:prstGeom prst="rightArrow">
            <a:avLst>
              <a:gd name="adj1" fmla="val 50000"/>
              <a:gd name="adj2" fmla="val 1177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3141720"/>
            <a:ext cx="1729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909200">
            <a:off x="5516280" y="3032280"/>
            <a:ext cx="549360" cy="215640"/>
          </a:xfrm>
          <a:prstGeom prst="rightArrow">
            <a:avLst>
              <a:gd name="adj1" fmla="val 50000"/>
              <a:gd name="adj2" fmla="val 63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1:21:48Z</dcterms:created>
  <dc:creator>mi452</dc:creator>
  <dc:description/>
  <dc:language>en-US</dc:language>
  <cp:lastModifiedBy>mi452</cp:lastModifiedBy>
  <dcterms:modified xsi:type="dcterms:W3CDTF">2009-07-04T14:16:19Z</dcterms:modified>
  <cp:revision>19</cp:revision>
  <dc:subject/>
  <dc:title>Slide 1</dc:title>
</cp:coreProperties>
</file>